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440" y="6629400"/>
            <a:ext cx="9144000" cy="237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CE6332 VLSI Design Final Present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fld id="{9800B4E4-6E7A-4ED6-A228-DAC0D0E9A718}" type="slidenum"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of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447920" cy="561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29"/>
          <p:cNvSpPr/>
          <p:nvPr/>
        </p:nvSpPr>
        <p:spPr>
          <a:xfrm>
            <a:off x="0" y="914400"/>
            <a:ext cx="9144000" cy="76320"/>
          </a:xfrm>
          <a:prstGeom prst="pie">
            <a:avLst/>
          </a:prstGeom>
          <a:gradFill rotWithShape="0">
            <a:gsLst>
              <a:gs pos="0">
                <a:srgbClr val="ff0000">
                  <a:alpha val="72156"/>
                </a:srgbClr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29400"/>
            <a:ext cx="9144000" cy="230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CE6332 VLSI Design Final Presentatio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A7AE8E-6972-4609-8D22-BB4272E9D20F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447920" cy="561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Low Power Lookup Table Using Power Gating and Forward Body Biasing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26668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ejia Li, Yang F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iversity of Virg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 of Electrical and Computer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rlottesville, VA 229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Rotunda picture"/>
          <p:cNvPicPr/>
          <p:nvPr/>
        </p:nvPicPr>
        <p:blipFill>
          <a:blip r:embed="rId1"/>
          <a:stretch/>
        </p:blipFill>
        <p:spPr>
          <a:xfrm>
            <a:off x="3809880" y="4343400"/>
            <a:ext cx="2362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Level Conver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35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d in the low power mod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duced swing sign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Full swing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store logic level to prevent leakage in subsequent s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464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High Power Mode 1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B on / Power gating: PMOS on, NMO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ergy per switch: 148 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tic power: 450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lay: 296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18076" r="0" b="10609"/>
          <a:stretch/>
        </p:blipFill>
        <p:spPr>
          <a:xfrm>
            <a:off x="762120" y="3124080"/>
            <a:ext cx="77724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High Power Mode 2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B off / Power gating: PMOS on, NMO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ergy per switch: 148 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tic power: 370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lay: 311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18076" r="0" b="10609"/>
          <a:stretch/>
        </p:blipFill>
        <p:spPr>
          <a:xfrm>
            <a:off x="914400" y="3048120"/>
            <a:ext cx="8001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Low Power Mod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B on / Power gating: PMOS off, NMO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ergy per switch: 101 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tic power: 280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lay: 556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92504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Sleep Mod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B off / Power gating: PMOS off, NMO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tic power: 84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Summa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have designed a low power lookup table using power gating and forward body biasing techniq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ur different operation modes are available, depending on the power/delay requi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uture work needed to optimize the performance (like reducing leak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The E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Outli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yste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x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ell Driver for F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wer gating circui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utpu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co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igh power mod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igh power mod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w pow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leep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Introduc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w-power desig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wer g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ody bi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ate bi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ual-V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ual-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choose LU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base lin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502920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System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1523880"/>
            <a:ext cx="9144000" cy="4648320"/>
            <a:chOff x="0" y="1523880"/>
            <a:chExt cx="9144000" cy="4648320"/>
          </a:xfrm>
        </p:grpSpPr>
        <p:sp>
          <p:nvSpPr>
            <p:cNvPr id="93" name=""/>
            <p:cNvSpPr/>
            <p:nvPr/>
          </p:nvSpPr>
          <p:spPr>
            <a:xfrm rot="16200000">
              <a:off x="2705040" y="3009960"/>
              <a:ext cx="1371600" cy="838080"/>
            </a:xfrm>
            <a:custGeom>
              <a:avLst/>
              <a:gdLst>
                <a:gd name="textAreaLeft" fmla="*/ 301680 w 1371600"/>
                <a:gd name="textAreaRight" fmla="*/ 1069920 w 1371600"/>
                <a:gd name="textAreaTop" fmla="*/ 184320 h 838080"/>
                <a:gd name="textAreaBottom" fmla="*/ 653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228600" y="2666880"/>
              <a:ext cx="457200" cy="1981440"/>
              <a:chOff x="228600" y="2666880"/>
              <a:chExt cx="457200" cy="1981440"/>
            </a:xfrm>
          </p:grpSpPr>
          <p:sp>
            <p:nvSpPr>
              <p:cNvPr id="95" name=""/>
              <p:cNvSpPr/>
              <p:nvPr/>
            </p:nvSpPr>
            <p:spPr>
              <a:xfrm>
                <a:off x="228600" y="2666880"/>
                <a:ext cx="457200" cy="198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600" y="3200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8600" y="3657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600" y="4191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143000" y="2895480"/>
              <a:ext cx="121932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71600" y="3124080"/>
              <a:ext cx="1447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8120" y="32004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u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19720" y="2895480"/>
              <a:ext cx="114300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0" y="320040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utput 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1676520"/>
              <a:ext cx="167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RAM configuration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86600" y="2895480"/>
              <a:ext cx="114300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86600" y="320040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evel Conver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6720" y="1981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1981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6880" y="15238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trol Sig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85800" y="3276720"/>
              <a:ext cx="457200" cy="457200"/>
              <a:chOff x="685800" y="3276720"/>
              <a:chExt cx="45720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685800" y="3276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85800" y="3429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5800" y="3581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5800" y="3733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362320" y="3276720"/>
              <a:ext cx="609120" cy="457200"/>
              <a:chOff x="2362320" y="3276720"/>
              <a:chExt cx="609120" cy="457200"/>
            </a:xfrm>
          </p:grpSpPr>
          <p:sp>
            <p:nvSpPr>
              <p:cNvPr id="116" name=""/>
              <p:cNvSpPr/>
              <p:nvPr/>
            </p:nvSpPr>
            <p:spPr>
              <a:xfrm>
                <a:off x="2362320" y="32767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62320" y="342900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62320" y="358128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362320" y="3733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809880" y="34290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62720" y="342900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29600" y="3429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3600" y="3048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29600" y="2971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33720" y="5029200"/>
              <a:ext cx="190476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2320" y="52578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ell 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00600" y="4952880"/>
              <a:ext cx="121932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4952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ower Gating Selector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5" idx="0"/>
              <a:endCxn id="93" idx="2"/>
            </p:cNvCxnSpPr>
            <p:nvPr/>
          </p:nvCxnSpPr>
          <p:spPr>
            <a:xfrm flipH="1" flipV="1" rot="5400000">
              <a:off x="2695320" y="4333680"/>
              <a:ext cx="1086480" cy="305280"/>
            </a:xfrm>
            <a:prstGeom prst="bentConnector3">
              <a:avLst>
                <a:gd name="adj1" fmla="val 4209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 flipH="1" flipV="1">
              <a:off x="5105520" y="4114800"/>
              <a:ext cx="304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1676160" y="4114800"/>
              <a:ext cx="3733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581280" y="3885840"/>
              <a:ext cx="1828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System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Mux Structu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use high Vt devices (NMOS_VTG) in the mux together with forward body bia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25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The Well Driv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657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enerate the body bias required for F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0.64V in ou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trade-off between power an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191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Power Gating Circuit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igh power mode: both PMOS and NMOS ar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w power mode: PMOS off, NMOS 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reduced VV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leep Mode: PMOS off, NMO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3429000" cy="2119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3271680" cy="3581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81480" y="5943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de selection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419720" y="5028840"/>
            <a:ext cx="7617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eader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81680" y="5181480"/>
            <a:ext cx="76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Output Driv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733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 a PMOS keeper to restore the logic level after the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114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31:34Z</dcterms:created>
  <dc:creator>HSCS</dc:creator>
  <dc:description/>
  <dc:language>en-US</dc:language>
  <cp:lastModifiedBy>crayon</cp:lastModifiedBy>
  <dcterms:modified xsi:type="dcterms:W3CDTF">2010-12-06T07:37:07Z</dcterms:modified>
  <cp:revision>1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NL Template Revised 11-8-06</vt:lpwstr>
  </property>
</Properties>
</file>